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C8F-255D-40FF-A09B-B8ABF055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524-060C-46DD-B638-5812BDC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07E97-1F39-46F6-9DEE-3525F32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10A04-4820-4BA1-8C4A-92C0C88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D325E-26CE-4F92-829D-0C753A5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84076-59FF-4C8A-AA62-DD1D075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01068-9AAA-484B-A699-CCCCA77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5F179-C8E4-4228-8D9A-3861E8C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C21A1-6AED-4327-A6C3-1822349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136D0-420E-436A-B7FE-77A1E6DA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4433A-C270-4C8E-9D15-F0326592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6500-884A-48E3-B440-DBC8D5A9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FA7-DAEE-41C1-A485-4D53B7D4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28A91-71C0-4999-88ED-D793FD6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8401-4DCD-49A9-8E6C-5176C071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E8203-AAE9-46F2-A002-1D97BB5F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153B7-D2DC-403D-802F-E8270BFD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24E7F-FA3B-4BF8-95D7-F6D39C8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B7E15-8074-4579-ADA0-4203265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0EF3E-6BE8-440D-8A9E-9B92B975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6B520-E5E0-433A-A6E1-4A7E34B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F862-7686-4A72-A7C7-61337A0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BEB4-BE05-413A-A2D2-71FA9D84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473-11CD-43A3-8705-87AEA305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BFAB6-8E71-4F6B-B353-28CB6235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40FD7-F4EE-4849-9F9C-3E9C1EA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7D3B-A24F-4E14-BCD2-0CF90C93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EF8DF-26AD-4263-9F7D-87B4681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114F9-676D-4B6E-9C2E-F8E0B759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56B79-AD76-4EC7-B2E4-0FFE9D96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1891B-F579-4A98-8B48-2C97759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F1ACE-37B5-463D-AAD1-DD859BF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ACA4-94F2-4D9B-9408-83DA5C1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BDCA-096B-4A7E-A472-AB79980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ECB-7578-49BB-A610-452EB2E9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ACA67-73AE-471C-9089-8A8CBBF2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55497-405E-4099-8AD2-72331F14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1E17-2C75-4A8B-9D76-188EB1D7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A30EE-032F-49DC-9CC8-BB5775D1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5F67-C621-4923-83F9-5A57E1DF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08D7F-7C67-40BE-ADB6-75D0332D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CAD3F-0D08-467E-9F69-3C85742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07C6B-7185-4297-83D3-996225AE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436A4-BC4F-4412-A1CD-19D9E88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4BD0E-B280-4D6D-9B86-403A98E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D4D-8135-400F-9A05-B5A1632B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F170-8623-4289-8DEA-6F2111B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CF12F-9442-4566-B820-DA7B4A1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F4542-92BC-4A7A-830F-A6A02FB8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22D0D-49F9-4FEF-8FF8-0F2271DF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8A50B-EC90-4DCA-BE76-DE838CFC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20BAA-1B5C-45DF-A8EC-DFA12981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5568F-E9FF-4CC4-9610-9CADBCC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B8A06-8CBB-4DAC-BF13-96B3EF7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35489-2397-4D6A-9B57-AA76F84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5136C-AFDC-4CE7-A631-5939A092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3AB-6B42-4D9E-B15D-177FEC2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74D4B-CB1B-4D46-A41F-87E05DAD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59604-0979-4700-A575-1533A37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8F005-BEA6-4B9D-8964-7847707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1B8A8-1610-4041-AF67-B666F35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9AFCA-13DC-410C-AEA8-2DAC5D82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53686-B96A-413C-9A6D-30F7CFD4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28903-5CB6-4845-8F5F-7259A156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73D57-842A-4ED2-A32C-CA4A2873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82E7C-54B9-4A52-8E6E-BD5CAC3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493B8-4655-4F89-8EBD-4360522A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8ADE-64E4-4A05-B2F8-0DAAAE5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0C116-FB12-452B-A220-EFAF574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E53CB-69E3-4D74-9015-6C6B0BB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0CFC5-6FAF-4268-A8BB-F709640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66F97-50CB-4FDB-BDEB-89CCBAC8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57A0B-DF8B-432B-A8CB-16CB344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D55B7-B7E4-43D9-86B7-DF55EE2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03192-7743-417E-99E7-FBF1CB3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79C14-7C80-4A62-AFE7-EF4EE2E1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EE62C-D1DA-4FC8-B7B7-FBD63247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CDD22-B5B5-4B04-905E-E2DF1CC5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3291-A5C5-4E45-9420-F74FB2D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DDCFD-654C-4E13-9D84-F7B1F2C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782A7-543A-496E-86D5-BBF9A7C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094FD-BE0E-42BA-80DA-D57A734C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DC32E-8280-4A30-AD69-A1FA366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BCE55-D0EE-4967-8AF9-F1DC91D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57610-6CF1-49B2-8166-BF05A28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2B990-CCC9-4F30-84C9-14318BE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CFFD3-8FBF-497F-A22C-B2F0ACD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996DE-3F0F-433F-B3CD-DD233C9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C835F-D6F1-4498-A1F1-EDA827AF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A341-A17D-4888-84CE-C181BEC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632E1-FA27-4A8B-A0D0-261F224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81F11-C058-4859-9878-CFC19E72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ADD69-DE8B-44BF-A40C-995A8428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7D1E0-1223-41E0-9BD0-B74589A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BF6F3-F348-459A-A37E-5EB6620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68837-9970-49E2-B697-CC720CC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4F966-EC1D-4198-9ACA-F7F1889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55E22-0E02-4A4F-917B-F6DCD06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E3380-DFE1-47C7-A008-50BF8B1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5766D-A4B1-4AD5-83DC-7DD7BE4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63CF-F894-4EF3-AEEE-1168F16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31B73-1CB2-4A7D-A92E-44E8CE4B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43FD0-24A9-4034-98B3-4EE5258F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762A4-90B3-483F-89D6-8B6FD0A2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03130-1C41-40F2-92C9-97CEA7A5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203DA-16E1-4758-B433-54BCF28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47025-14F4-41A8-AE43-7EAB1709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396D8-A3FA-4BEA-B0BB-73DBC28D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009C2-67D4-481E-A1ED-98F60AD2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6140D-3C94-467B-8497-7CA49AE3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C6E85-EDCC-4600-8BCB-E264CFA3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5A4-47CB-4F0F-BA8C-41FEB2A3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F275-5069-44A5-8629-652AD0E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5CAA2-27E3-409B-A3F6-CDAA6F3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94AB2-5667-429E-AC93-642679D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81789-2985-4CA2-BB87-3370FF1F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18357-3BCA-4B4B-A105-4E3EA539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7C3F4-CC24-4531-9EC9-665D594E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A760B-F05C-4BAD-9645-B96FA484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90AC6-3183-4176-8BAA-94A9AB2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8257D-54E5-4EF6-A27A-EB0C726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559FE-A769-4786-AD42-856D94BF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953B9-40AB-4574-B0A6-C84A650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8D55-4159-40C3-99DA-E84AC335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703F0-BF4D-4A2C-A12B-BBCBA97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5599F-1BB0-4BDB-80D9-A51B286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47A1B-4887-4D08-90C8-7630CBAB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13387-9887-4C1C-81AF-C4E1934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235BF5-C66D-4763-AA3A-B2630CA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CBA10-F7B5-49B9-9045-8AEC8A9B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FA79F-AD81-498B-99ED-129D7432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7F18C-211C-476B-BDB7-73E1F8B9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9BEEC-EDEE-4D8E-9267-6C00AAA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7E6C5-02E1-4861-833B-C2421E0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C97-4B81-4867-B483-E2721F4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D85E0-050F-4986-B3C9-350FC45F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3487A-1C79-4CB6-9797-6AE397E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8FB76-909C-49DE-B1E4-8305EF3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D320F-B78E-4ADA-A062-B0D5D15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7B990-6D4E-4C91-A307-9CB61D0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8D7C8-9A2E-4BBD-B8F1-1B0F0C6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FF3A2-C0A8-4EFF-B3C9-D6EAD39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84876-B9F6-4CC3-A896-857025A6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FC673-EA61-4AD0-B702-C8B2A7E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B58F2-DC0B-4C5E-A4B5-9F71BD58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BB92-B536-4A92-A393-44989939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0723C-3AA9-4B23-984E-EBC5F87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33595-2507-439D-8FA5-53544D3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52D86-955A-4A00-A4D0-BB767F2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6DF8B-B881-4AEA-83B1-41F57843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83A55-F432-46AF-B591-1197625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58D59-F42B-4E85-B2DC-559E5E1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2B29E-544C-4BFA-B2AF-A961E39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24B8C-4B05-4A51-845F-9D0BCE9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1AB99-C2D3-49C3-A03F-B0CEFAA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31662-5BD6-42CE-B892-3E0FB45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5B04-93E0-4D57-A43C-242445E8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0EEBC-CA83-47F7-ABC2-3ECB40E3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D33C5-0546-4E2C-9B2C-948AF205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F6BB3-0895-4A03-A1DB-88D95A8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B0024-6F4B-4A4B-888D-E21F302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2DE84-B5B3-4F91-AD60-FA4832BF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01DEDE-8DB9-422F-9D5E-63A3A8AB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E9DA0-7763-4B97-838B-5ACDEBBA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A3190-54B2-4DDF-9E4F-C1C7CE7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5E5AF-8783-4547-AAC7-0659EE0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AD292-D4FA-4122-B13A-093A591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BCFE-DE14-42B4-A0D8-D6845128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1FA39-D010-40F7-B311-7EA57DF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E394A-BEC1-4258-A995-86EAC6AD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540C5A-544C-4748-9A5D-8755CAFC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D12CBD-645C-4CF5-AE8B-857DB426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7741C-6997-42F3-9CF5-FB0CB55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D0B98-31BF-4BF9-AA15-1A3B2248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437B4-F8DD-4EA9-9137-3DD478B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664C7-A5AD-47B6-B05A-33F61EB0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9205B-EACA-4CA8-A38F-311E20CC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F5C3D-21D2-46AD-97E6-3D408BC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A5A8-EC01-4AED-B0F3-6E6AA461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CBF64-68F9-4061-902E-E956CA1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2F118-5BAD-4964-A08B-8556017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D37DB-ED42-4984-B632-3F98BB22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567D5-DCE4-4666-816D-9657FB48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7B676-D062-4305-8223-0819B8C4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2DB0-D717-4437-9407-854CAA3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810C-B97E-4755-803C-FFBB0F99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E14D-5E29-40D6-A7CD-0460FF19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2F8-5839-4B0F-8E61-6DEFB3C1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FA07-2760-4B04-ACDD-DC83A3DB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3E62-7AE6-4151-8FC3-AEE4576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DEC9-AC2E-4E5B-A992-972D1AEF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5827-5D2C-4A38-BB1B-5D8F81EF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3308-5C93-49B1-A5F0-58498F30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F33D-6D86-4673-B34B-991B81EE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9C85-D121-4D22-86CB-8FEDC6BE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D4C7-2012-40F2-B7BF-845B1F97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2708-0E87-4E8B-B1CE-E7EBA83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1EBD-43BA-468B-80B8-FCEA763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C2E-5256-425E-B024-2D91DBD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CF39-5313-4A06-BEC2-C5F7A0D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9FA0-9E30-4532-B182-9A65B44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0EFA-F30B-404E-851D-56038432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8A8E-FCB5-4E0E-A1FD-A369532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E31A-B377-4AEE-AD7D-04D9C21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2A09-5EA4-42A9-97A3-4F00ED0A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6BA3-0A54-4BFF-841F-8EA7A8C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5359-E960-44CA-B088-43EDF46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78A0-B878-4092-A39C-4B805958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94F5-7104-4740-B86E-8EF051F0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F80-FC64-47FC-9D51-C05B9793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8508-1DB5-42E5-B9FB-423A330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7AFF0-0947-415A-A15C-47B5737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D2C1-1D4C-4F35-BA00-5FD3565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2A3D-AAD7-421E-B8FA-9B04B5AC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9A91-9379-433D-A644-4A1C189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CD50-58E4-467F-BB45-521056F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D981-2596-40FA-8725-5D85775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8CFF-7610-45DC-BF26-87A2C0D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5D04-6326-41DE-AF05-04600E9E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7A3E-CB77-4FAB-A3F5-5D2E5F8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E59-151A-424D-8D32-7C9B44C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72E1-B315-4671-B2EA-430433A5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E557B-D5ED-4C67-949A-8AF2B198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F1AE-ED49-4108-9D49-A85B13C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EC5D2-4E30-4888-8C6A-F674DA2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E7296-2609-4DD9-92A9-2ADF38BE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90EC-13F6-409F-A8CE-A99CE9F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CD4E-92AB-4156-AA66-28ED15DF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2E71-75BA-4A51-957D-3B73C45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3C7E-FA02-4EAE-8888-78AFDE4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2284C-2972-4675-8FA1-D3D0560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1BD-CBFC-4360-A360-D7C3AA21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8BE39-D98B-4E19-8C47-1565991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BA33-29AB-48B9-8448-481452E8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218E-8A00-41B5-B2B9-7E8509C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0001-254F-4F0C-AE5E-A52B6DA5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5D00-6571-4FEC-9DD5-6E1EB48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492D6-89B0-4BE9-B217-2E546E9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AFF0-9BE2-43AF-9EC3-CCE9732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808DB-2E71-48C2-AF7A-4A0232DD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90440-8FE0-4D85-A2B1-ECB392B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94F7-7F6D-4835-8878-EC155C2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CE9-FA4D-4082-BE9B-31FD970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775E-77C7-4A02-A04C-FD6FB24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CA6E7-7031-48C2-BA6F-6A68B86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1C1A-3A58-457F-9E21-07AE331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0111-F247-4EAE-9CB5-FBB87616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409E-B1D8-4076-855E-97530DF5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53E3-B5F8-4787-A715-687974AB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D071B-3434-4629-8685-730EFFA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CB268-38E1-43F4-B54A-7E12E12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D5F8-4548-4705-9B94-35E9D98D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0AA53-2557-4A5D-B757-8B45219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870-77DF-4F1C-8768-22A8510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CB00-FC68-4FB5-9D7C-82FF385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1746E-5156-4063-BBE7-B3CA3D7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D34A-44A0-4089-AA8A-62CEE76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85AED-1596-4633-9F14-DAF9763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91DA8-1CD5-45A7-B4A7-7B5D983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6A13-1789-4E4D-A3E4-F1BAB8A1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B64F-960C-4BB6-8287-E7BC1C71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56354-9E4A-4E9A-8C6C-0E6C37FA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3B3E-24B9-4F38-A430-D874CDF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9C41C-DDA8-4EC5-956F-B3C1667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5FB-3567-43A8-A7D0-07A2A0525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44C5-9045-4358-BC54-77EFB2F249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B7E-EF95-4972-8D8A-5757921FE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11D-E8DC-4FCD-9668-8591CC8D5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E0D5-8853-44C0-8B57-9ADBCDB16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17B-F8C5-456F-AC52-84102A380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7FB-82BE-4F28-ACA5-44360AA3B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63A-A01A-4A10-B72F-C1E9E19A3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04B-9213-4D78-BBB0-69CCC5C9F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2034-18A2-495D-B85B-95D752E54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901-84BE-42D1-869B-05F4C780AA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F81-23C4-4051-AF27-DAEEDAA1D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FF1-5A3A-417C-B57B-EE6B39ADF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8053-F1CF-4CA2-B407-6F180875A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81A0-DA6B-4546-8DAA-566606F57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314-F64F-4240-BE2B-B65BCE7D95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EB1E-FFAC-48A3-A8E3-7A880D8E5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068-70FF-4E6F-819B-E108C2BCB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AF9-E822-4782-B863-1C63D9749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7C4D-3A69-4904-A78B-06CEAED10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2421-8088-40A1-B0A7-0C815E562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067D-9B6B-4FE6-AB2E-F6B89B84D2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58B-557A-46D8-96B8-86D8B7BE4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E3B-C1B3-47BB-B6CF-2C3F52AC5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42B1-0653-4F07-A51B-9733B7DD7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78B-8F02-4DC1-B36E-61F2767E9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2AD7-24F0-49D9-A84A-D511A3ADB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527A-F2EA-4534-9D75-F584EB58A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1466-4280-4F4D-9A6C-9B2D0F2AC2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667-A7EE-4CC9-8493-5CD5352B4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A9D-C998-498A-A53A-778776E7F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77A3-C0B6-451F-B672-60B24145B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725-7413-400D-BC1A-5C58CE850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7FB-8378-42FC-B88F-6349DBB475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F71-7CCF-4F31-B212-CD0A8724F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4F6-24AD-44E6-8374-D2A9D0EA1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23D1-125B-428A-8969-5881B2A19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1E0-CB71-47E0-B012-36A52CCE3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737-7F33-4B0E-97A9-ADEB2FB959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50F-623A-485A-A4CE-307AF8885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B404-E87F-43B1-BC36-341931261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3281400" y="3071880"/>
            <a:ext cx="2581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890640" y="1271520"/>
            <a:ext cx="7362720" cy="43149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5450040" y="2851200"/>
            <a:ext cx="1923840" cy="43812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5738760" y="5011560"/>
            <a:ext cx="19242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169" descr=""/>
          <p:cNvPicPr/>
          <p:nvPr/>
        </p:nvPicPr>
        <p:blipFill>
          <a:blip r:embed="rId1"/>
          <a:stretch/>
        </p:blipFill>
        <p:spPr>
          <a:xfrm>
            <a:off x="318960" y="1452600"/>
            <a:ext cx="8506080" cy="39528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7170" descr=""/>
          <p:cNvPicPr/>
          <p:nvPr/>
        </p:nvPicPr>
        <p:blipFill>
          <a:blip r:embed="rId2"/>
          <a:stretch/>
        </p:blipFill>
        <p:spPr>
          <a:xfrm>
            <a:off x="2584440" y="3267000"/>
            <a:ext cx="1924200" cy="43812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7171" descr=""/>
          <p:cNvPicPr/>
          <p:nvPr/>
        </p:nvPicPr>
        <p:blipFill>
          <a:blip r:embed="rId3"/>
          <a:stretch/>
        </p:blipFill>
        <p:spPr>
          <a:xfrm>
            <a:off x="5665680" y="4608360"/>
            <a:ext cx="19242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8193" descr=""/>
          <p:cNvPicPr/>
          <p:nvPr/>
        </p:nvPicPr>
        <p:blipFill>
          <a:blip r:embed="rId1"/>
          <a:stretch/>
        </p:blipFill>
        <p:spPr>
          <a:xfrm>
            <a:off x="162000" y="1490760"/>
            <a:ext cx="8820000" cy="387648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8194" descr=""/>
          <p:cNvPicPr/>
          <p:nvPr/>
        </p:nvPicPr>
        <p:blipFill>
          <a:blip r:embed="rId2"/>
          <a:stretch/>
        </p:blipFill>
        <p:spPr>
          <a:xfrm>
            <a:off x="4470480" y="2289240"/>
            <a:ext cx="1923840" cy="43812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8195" descr=""/>
          <p:cNvPicPr/>
          <p:nvPr/>
        </p:nvPicPr>
        <p:blipFill>
          <a:blip r:embed="rId3"/>
          <a:stretch/>
        </p:blipFill>
        <p:spPr>
          <a:xfrm>
            <a:off x="4413240" y="4392720"/>
            <a:ext cx="1924200" cy="438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4413240" y="4998960"/>
            <a:ext cx="4716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29:2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